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214-D7F4-435F-A3CD-2FDC38BD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716-55E9-4DA6-AF8C-D69F17C7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0C3-11BE-41D0-8ADA-F6887AD9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DF5-6C5F-4991-8555-A6E7144C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5D8A-92CE-4F87-93EA-A0918F11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F96D-D7A0-49BF-9645-BE56DD3F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9A2-85FE-4C36-8636-5F735FEB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88AD-3ECC-4556-8391-1210E10D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47C0-EB15-43E8-ACBC-A0E63E96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0EF-9854-40AF-84E9-3A5A33AC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E18D-4578-4503-9B7D-A583C65A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6E6-D660-4C4A-985E-ECFA9953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A9C6-7C08-4002-9C7D-0BB7C9C59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Какво знаем за храносмилателната система? Какви са нейните ча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3657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о храната трябва да бъде раздробена, преди да я преглътнем и да отиде в стомаха. Как става т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1676520"/>
            <a:ext cx="670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У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Стом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Тънки чер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Дебели чер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5029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та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ъб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Зъбите и грижите за т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пред се намира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ц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ито отхапват хран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тях 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чешките зъб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ито разкъсват хран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 тях с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ътниц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ито раздробяват хран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3276720" cy="318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46483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cc"/>
                </a:solidFill>
                <a:latin typeface="Arial"/>
              </a:rPr>
              <a:t>Запише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cc"/>
                </a:solidFill>
                <a:latin typeface="Arial"/>
              </a:rPr>
              <a:t>Зъби – костни израстъци в устата, с които отхапваме и дъвчем хран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2193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Устна кухина и зъ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58309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Запишете видовете зъ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4724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цата има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млечни зъб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Те растат, докато детето стане на две години и половина. Тези зъби по-късно пад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38280" cy="3905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5335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Млечни и постоянни зъ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Запишете броя на млечните зъ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343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огледнете снимката в учеб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480" y="1980720"/>
            <a:ext cx="4648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ястото на млечните зъби се появяват постоянните зъби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ъзрастният човек има 32 зъб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335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Млечни и постоянни зъ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2819160" cy="4914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4572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Запишете броя на постоянните зъ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Разваляне на зъб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Запише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Емайл – покритие на зъбите, което ги предпаз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432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правилно хранене и лоша хигиена емайлът започва да се разрушава. В зъба се появява дупка, която постепенно се разширява и започва да боли. Тази дупка се нарича кари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572000"/>
            <a:ext cx="77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Запише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Хигиена – начин на поведение и мерки за опазване на здраве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Три правила за здрави зъ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1430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Почиствайте редовно зъбите си! Мийте ги старателно сутрин и вечер. Използвайте и конец за зъ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4100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огледнете илюстрациите в учеб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47242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Три правила за здрави зъ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91320" y="1143000"/>
            <a:ext cx="2311200" cy="2311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562720" y="3657600"/>
            <a:ext cx="2590560" cy="2227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12193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14300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Хранете се правилно! Не прекалявайте със сладко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2860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ийте повече мляко, яжте сирене и плодове и зеленчу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3581280"/>
            <a:ext cx="441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3526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яжте много цитрусови плодове (лимони и портокали) – те развалят емайла на зъб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Три правила за здрави зъ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429000" cy="373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2120" y="14479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Посещавайте зъболекаря поне два пъти в година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81952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редовните прегледи навреме се откриват зъбите, които са започнали да се развалят. Така те по-лесно и безболезнено се лекув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29200" y="914400"/>
            <a:ext cx="3600360" cy="3370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3520" y="1447920"/>
            <a:ext cx="41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ижете се за зъбите си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тоянните зъби са за цял живо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ако искаме да ни служат вярно, трябва да се стараем да са здрав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4800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исмена задача: отговорете на 3 въпрос от учеб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gnmf</cp:lastModifiedBy>
  <dcterms:modified xsi:type="dcterms:W3CDTF">2009-05-05T09:37:1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